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5th%20Grader%20Short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F756-6987-4397-864C-3A806F90E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1860-7992-4D55-B011-E93E6559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3638-823E-4CEC-8553-8C038F0DA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0D6B-A8F3-4E18-A72C-F0AF1189C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DAC6-A13A-4E31-BEC0-265FD2A25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B659-3696-438E-BF0F-461ECD6E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DCDB-4F00-4EEE-A489-0A65D0E7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EB60-2ABE-4AC7-9050-CF05A6DD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7DE7-4A27-499A-9066-B4544F94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0AB4-0958-4963-8806-C8461773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0484-A860-4437-B1AC-704ED116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C98B-EC74-41F9-8F10-5EDCE2D8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8787-7D1B-483B-B2ED-2F920626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5730-F1BA-4DA5-9B51-7D87565A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0F70-497B-45E1-9ACC-9BD2D563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5A17-E202-4344-B428-6C038F453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519F-B5A8-41EF-A9A7-54C40DDC1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A130-699A-49C3-9EC8-98073C74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B1E0-453F-4C53-BD3E-833887CE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A866-50EC-46D5-BAC4-015D9A92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4569-7A74-4981-96DB-0237A06F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7761-B747-454B-AFDA-A0C4728D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4D48-F05D-4122-BD46-0C93B8BE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C921-0F66-43EC-AD28-9959963E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66000"/>
          </a:bodyPr>
          <a:p>
            <a:pPr marL="226080" indent="-226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90320" indent="-1886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754200" indent="-15084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055880" indent="-15084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357560" indent="-15084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7098-753B-4F0A-80AA-4BE338D206F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6FCC-3F8F-4A3A-884A-A6E4EC04A8B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5th%20Grader%20Short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" Target="slide13.xml"/><Relationship Id="rId5" Type="http://schemas.openxmlformats.org/officeDocument/2006/relationships/slide" Target="slide19.xml"/><Relationship Id="rId6" Type="http://schemas.openxmlformats.org/officeDocument/2006/relationships/slide" Target="slide22.xml"/><Relationship Id="rId7" Type="http://schemas.openxmlformats.org/officeDocument/2006/relationships/slide" Target="slide25.xml"/><Relationship Id="rId8" Type="http://schemas.openxmlformats.org/officeDocument/2006/relationships/slide" Target="slide28.xml"/><Relationship Id="rId9" Type="http://schemas.openxmlformats.org/officeDocument/2006/relationships/slide" Target="slide31.xml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" Target="slide3.xml"/><Relationship Id="rId13" Type="http://schemas.openxmlformats.org/officeDocument/2006/relationships/slide" Target="slide3.xml"/><Relationship Id="rId14" Type="http://schemas.openxmlformats.org/officeDocument/2006/relationships/slide" Target="slide3.xml"/><Relationship Id="rId15" Type="http://schemas.openxmlformats.org/officeDocument/2006/relationships/slide" Target="slide3.xml"/><Relationship Id="rId16" Type="http://schemas.openxmlformats.org/officeDocument/2006/relationships/slide" Target="slide3.xml"/><Relationship Id="rId17" Type="http://schemas.openxmlformats.org/officeDocument/2006/relationships/slide" Target="slide3.xml"/><Relationship Id="rId18" Type="http://schemas.openxmlformats.org/officeDocument/2006/relationships/slide" Target="slide3.xml"/><Relationship Id="rId19" Type="http://schemas.openxmlformats.org/officeDocument/2006/relationships/slide" Target="slide3.xml"/><Relationship Id="rId20" Type="http://schemas.openxmlformats.org/officeDocument/2006/relationships/slide" Target="slide3.xml"/><Relationship Id="rId21" Type="http://schemas.openxmlformats.org/officeDocument/2006/relationships/hyperlink" Target="http://deiblerenglish.wikispaces.com/file/view/GE-powerpoint2.ppt" TargetMode="External"/><Relationship Id="rId22" Type="http://schemas.openxmlformats.org/officeDocument/2006/relationships/hyperlink" Target="http://deiblerenglish.wikispaces.com/file/view/GE-powerpoint2.ppt" TargetMode="External"/><Relationship Id="rId23" Type="http://schemas.openxmlformats.org/officeDocument/2006/relationships/slide" Target="slide34.xml"/><Relationship Id="rId24" Type="http://schemas.openxmlformats.org/officeDocument/2006/relationships/slide" Target="slide3.xml"/><Relationship Id="rId25" Type="http://schemas.openxmlformats.org/officeDocument/2006/relationships/slide" Target="slide3.xml"/><Relationship Id="rId2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4648320" cy="3603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"/>
          <p:cNvSpPr txBox="1"/>
          <p:nvPr/>
        </p:nvSpPr>
        <p:spPr>
          <a:xfrm rot="20578200">
            <a:off x="761760" y="4191120"/>
            <a:ext cx="754380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Your Classroom Edition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Orlicks reason for seeking revenge on Pip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2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 claimed that Pip came between him and his lov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dare you com between me and a young woman I liked?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Orlic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ere does Pip pick Magwitch up on the riv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1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ara’s Hous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w did they know that Pip was at the Sluice hous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y found a mysterious note addressed to Pip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was in the group that comes to save Pip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re You Smart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an a 5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1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rbert, Startop, and Trabb’s S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does Orlick confess to doing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2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illing Mrs. Jo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promise that Pip makes to Magwitch before he is taken away to jail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1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 promises to stand by him, he say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 will never stir from your side, when I am suffered to be near you. Please God, I will be as true to you as you have been to me!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does magwitch attack from the rowboa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2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peys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500"/>
            </a:gs>
            <a:gs pos="50000">
              <a:srgbClr val="408000"/>
            </a:gs>
            <a:gs pos="100000">
              <a:srgbClr val="020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e You Smarter Than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228600"/>
            <a:ext cx="1333440" cy="457200"/>
          </a:xfrm>
          <a:prstGeom prst="rect">
            <a:avLst/>
          </a:prstGeom>
          <a:solidFill>
            <a:srgbClr val="0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1,0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95280" y="1676520"/>
            <a:ext cx="327672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5th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24280" y="1676520"/>
            <a:ext cx="327672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5th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2647800"/>
            <a:ext cx="327672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4th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2666880"/>
            <a:ext cx="327672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4th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3619440"/>
            <a:ext cx="327672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rd Grad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24280" y="3619440"/>
            <a:ext cx="327672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3rd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95280" y="4591080"/>
            <a:ext cx="327672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2nd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591080"/>
            <a:ext cx="327672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2nd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5562720"/>
            <a:ext cx="327672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1st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24280" y="5562720"/>
            <a:ext cx="327672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1st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5240" y="800280"/>
            <a:ext cx="11430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1387440"/>
            <a:ext cx="11430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3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1973160"/>
            <a:ext cx="11430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17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2560680"/>
            <a:ext cx="11430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1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3147840"/>
            <a:ext cx="11430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4" action="ppaction://hlinksldjump"/>
              </a:rPr>
              <a:t>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3733920"/>
            <a:ext cx="11430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4321080"/>
            <a:ext cx="11430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6" action="ppaction://hlinksldjump"/>
              </a:rPr>
              <a:t>1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4906800"/>
            <a:ext cx="11430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5494320"/>
            <a:ext cx="11430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8" action="ppaction://hlinksldjump"/>
              </a:rPr>
              <a:t>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19" action="ppaction://hlinksldjump"/>
          </p:cNvPr>
          <p:cNvSpPr/>
          <p:nvPr/>
        </p:nvSpPr>
        <p:spPr>
          <a:xfrm>
            <a:off x="152280" y="6081840"/>
            <a:ext cx="11430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0" action="ppaction://hlinksldjump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>
            <a:hlinkClick r:id="rId21"/>
          </p:cNvPr>
          <p:cNvSpPr/>
          <p:nvPr/>
        </p:nvSpPr>
        <p:spPr>
          <a:xfrm>
            <a:off x="1600200" y="1143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e1ff"/>
                </a:solidFill>
                <a:latin typeface="Arial"/>
              </a:rPr>
              <a:t>TEAM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>
            <a:hlinkClick r:id="rId22"/>
          </p:cNvPr>
          <p:cNvSpPr/>
          <p:nvPr/>
        </p:nvSpPr>
        <p:spPr>
          <a:xfrm>
            <a:off x="5562720" y="1143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e1ff"/>
                </a:solidFill>
                <a:latin typeface="Arial"/>
              </a:rPr>
              <a:t>TEAM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1295280"/>
            <a:ext cx="0" cy="5562720"/>
          </a:xfrm>
          <a:prstGeom prst="line">
            <a:avLst/>
          </a:prstGeom>
          <a:ln w="28440">
            <a:solidFill>
              <a:srgbClr val="43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10560" y="228600"/>
            <a:ext cx="1333440" cy="457200"/>
          </a:xfrm>
          <a:prstGeom prst="rect">
            <a:avLst/>
          </a:prstGeom>
          <a:solidFill>
            <a:srgbClr val="0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3" action="ppaction://hlinksldjump"/>
              </a:rPr>
              <a:t>1,0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899480" y="800280"/>
            <a:ext cx="11430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4" action="ppaction://hlinksldjump"/>
              </a:rPr>
              <a:t>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886880" y="1387440"/>
            <a:ext cx="11430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5" action="ppaction://hlinksldjump"/>
              </a:rPr>
              <a:t>3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886880" y="1973160"/>
            <a:ext cx="11430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17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886880" y="2560680"/>
            <a:ext cx="11430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1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886880" y="3147840"/>
            <a:ext cx="11430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886880" y="3733920"/>
            <a:ext cx="11430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886880" y="4321080"/>
            <a:ext cx="11430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1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886880" y="4906800"/>
            <a:ext cx="11430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886880" y="5494320"/>
            <a:ext cx="11430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886880" y="6081840"/>
            <a:ext cx="11430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0"/>
                </a:solidFill>
                <a:latin typeface="Arial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attacks Pip at the Sluice Hous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olge Orlick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0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code the hidden message…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retg teaixapcots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yb ahelcrs kesnic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3e1ff"/>
                </a:solidFill>
                <a:latin typeface="Comic Sans MS"/>
              </a:rPr>
              <a:t>Great Expectations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3e1ff"/>
                </a:solidFill>
                <a:latin typeface="Comic Sans MS"/>
              </a:rPr>
              <a:t>By Charles Dickens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s for Play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month was it when Pip, Herbert, Magwitch, and Startop are on the riv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rch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t was one of those march days when the sun shines hot and the wind blows cold- when it is summer in the light and winter in the shade.”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 flipH="1" flipV="1">
            <a:off x="9144000" y="-76320"/>
            <a:ext cx="76320" cy="76320"/>
          </a:xfrm>
          <a:custGeom>
            <a:avLst/>
            <a:gdLst>
              <a:gd name="textAreaLeft" fmla="*/ 4680 w 76320"/>
              <a:gd name="textAreaRight" fmla="*/ 71640 w 76320"/>
              <a:gd name="textAreaTop" fmla="*/ 4680 h 76320"/>
              <a:gd name="textAreaBottom" fmla="*/ 7164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w badly did Orlick hurt Pip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 hurt his arm, but he had no major injuri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20:28:24Z</dcterms:created>
  <dc:creator>Gary Bodenschatz</dc:creator>
  <dc:description/>
  <dc:language>en-US</dc:language>
  <cp:lastModifiedBy>MTSD</cp:lastModifiedBy>
  <dcterms:modified xsi:type="dcterms:W3CDTF">2009-03-18T15:45:42Z</dcterms:modified>
  <cp:revision>23</cp:revision>
  <dc:subject/>
  <dc:title>Are You Smarter  Than a 5th Grader?</dc:title>
</cp:coreProperties>
</file>